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FBC34F-2F23-42EC-AEA4-C0E86E5CBB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11FF95-FCAD-4162-B5EC-7DA8C78BA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EDC23A-17A4-43BA-9016-0D20F2B7B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97546A-DD7E-406A-B5C7-2774A26C3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142075-C11C-40AC-84B7-6E87641F2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552281-2E5C-419E-ACEE-F23977F23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426E1B-4D6C-40C0-9A05-3C76FC2FE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31C018-5063-4F7F-A8BA-C5F4FEDAC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FE4880-014F-4905-B191-42BC67FC8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DB9E59-598C-4D32-96C6-D0DE9B6B2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9A7D-2FD4-4BF2-ABAA-5B20F2DE1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25EE-B499-4B6A-B828-7822BAF1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F9D53-A350-4D44-B819-27427F6F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2A253-DBAB-407A-913B-CE1EAB7C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339BB-2403-49C8-A116-2DCD9853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D9CC0-8446-47FC-8B0A-00B0F956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28E1BA-3E0E-42CA-BF8F-72AF1634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3DFF3-97A3-4AA5-BB82-BBA9CE7D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2F290-C535-4978-BAF4-13567461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4C83F-E538-4602-8262-23B5F597D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ED137-FF92-4FD9-99C7-89852BF68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179128-95A9-4A2D-A320-ADE42985F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0AF7-9D79-4939-9569-765E5B29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3D720E-1276-4643-92DA-E1333DDE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C253A-D869-49FB-B6CA-C36A4A36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D4592-4C33-44F3-A2F2-00BC7374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22DCA-714B-4D45-8905-AFE31B06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9A302-0305-495E-BFC4-AD3B9B6E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F85FF1-B493-4C0D-A3AC-CD508FD9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AA81F4-618E-44FA-A5E8-E50DF8F8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1D1650-6339-462F-9F1D-F85789A0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03C79-A7C0-4FB6-89D2-8507AD1A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430B4-F99B-4AD4-A906-617FFDED7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B7B0-EB55-48E3-870D-02C6AA8D2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DB56AE-9CF2-4529-B642-21EB423D0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159D2-428E-48DC-90DE-D5AFD2106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8EA42-B2CF-450C-9924-48E305B8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D5AAC-378E-4507-BF91-E42A3FDA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C0C25-A63C-4727-B3E0-F2B7A04B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263B9-D728-40EE-8400-BC354256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914EF-690C-43AA-87C1-3760AAE3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959F1-AC75-4CDF-902C-3ED90F8F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BDDAE-55AB-4805-BA18-3058C233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2F9BE-BE10-4FB3-A035-3C202B3C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ADA2-DC68-4A89-9467-1F15CEC9E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FF118-E652-40BD-885D-046D56D8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ABA1B-E967-4A6C-9CB7-50372F0DB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899A3-FB1B-4A99-A7A8-3312A5A0B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4AD426-15F1-4B38-A0EE-BAF56AE82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BB6393-3807-4B5A-92FE-5B1C0C67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879920-3846-4CDA-8D6D-5F646FF3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826D8D-6D02-4503-9537-D564CD27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831C99-6F67-48F9-8C13-ABB512C8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CF10AC-AD1F-497B-BE98-BB12F253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413C30-74C4-4326-B8CA-8D15F70C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A525-27DE-4156-9772-C972ED0F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16A85B-D544-4925-9A3D-6C2258F4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D2E7E-B467-4110-B57F-875A41DD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2A2141-9DEB-457C-956C-36D5865C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0FCD2D-BFA7-4ED2-B577-AC06AB6C5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AE671A-D0A1-4BD2-976F-32EA30F0D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B7F9D6-3587-4350-AF9D-0AC6EC685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2BD558-6E65-4C35-BA83-59453DD4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AA83A8-31B6-43D1-9BD9-219199AE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6E5F01-F4B4-432E-820F-42B2FA92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D44B4C-718C-4C77-A65D-8D7C3195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1ACA-9227-463A-987C-BD583574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AC4332-F6FA-47E1-9EBC-55B12AED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6A9504-8953-4E8E-85AD-68972713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F6F520-E11F-4F44-BD1F-20F4EB6A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6984E4-B018-4EC7-B51B-22243A4D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B778B2-2CC8-4016-B020-9A8C6D00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8C52A3-1A96-4F72-A437-F38492C2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413265-D59A-4BAE-A5EE-DA098B82B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BA3B01-C564-45BD-9B90-C3731C1FA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2469C9-C630-49AC-A03F-D4D253CF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5D5388-4E63-4232-9EEB-0AD1EF07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51E6-6658-4F89-9C29-E77A1FA4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09FFDD-80C0-45FC-B975-4588957A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397356-B057-458C-8F9E-00B0384F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764714-7D4E-484D-B127-87093F23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77A342-6908-4A00-9C3F-8112BBE9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AD16ED-DFE7-4F85-A079-4EC2A586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096C19-B713-40EC-A3F0-EDE6266B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1A658D-3184-4EED-8D12-C6B2BD81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356D7E-357A-4CAC-9404-B0E6637B6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4B520E-E14F-4895-859D-37EF9DC89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5B961B-7179-4582-83A9-58D6BF319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5B97-72C4-43D6-A45D-18C805CE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E14AE1-D5CC-4A1E-A6F0-D50B2CD3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83F672-12CF-4784-8E1B-2B2F21E7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20EB78-5117-4F49-8F24-E56CA31A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7FA7FE-A521-4195-A922-DA8D4BF9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8AFBCD-5033-4F9D-A218-A3A1E0F6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ECF7EA-A223-4581-995C-4537D147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C7EAC3-76C7-4CFB-B0FE-2153A554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91D990-FB68-48EE-9541-0C281542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280E0C-632C-41FE-A4FB-DBECB105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866DD9-B058-4E3E-98BD-E0F2C81B0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BA62-9742-4FDF-A0B3-61BA70FF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0504EB-896D-4BCF-BBAA-2C3C0E265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DBB713-92F0-4429-92B6-41EF59C2C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A6CCAB-A90A-450E-A27B-5F25E82C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D1E75B-86A0-446C-90BF-28649203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708F3F-EF2E-4DCB-9406-B34165FE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AA0BC3-6AE8-400B-9DCB-AFC014EE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4888FD-AB35-418D-80F7-BC4F595A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8234DE-A10E-404E-B310-5722720D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79B02D-5919-4051-81B3-9FF58A1F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E1B9F0-757F-4CF5-94D7-B8F20E7B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0EEB-9696-4A86-8D72-80C9000C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4E6F19-2569-4709-9ECE-AACA7D1F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32C018-2B5B-4E27-A430-FB03E314F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BC34FF-FD90-4526-A47E-DCB23E49F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00040E-4B12-4E23-B35A-7640657F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62A1F9-C9EC-40E5-B826-E76DB70C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94752E-8CA1-4C4A-B4F4-AF1E56FC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3F96D0-938E-46F3-830A-468C9B8D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FBE2D8-F1D4-4ADA-90D4-AE6CB20E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9C0D14-9163-4F32-B612-4C09622C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8401CD-98C5-4506-9AB2-EA06F1CC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53D4-1F6B-451B-A92B-909A9918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2327-D9A4-4B37-9061-EF428A01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5D5542-A3F1-45B0-8D94-82243850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EE2BE9-ED35-4780-986B-07B4BF3D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2572AC-7FF5-4E0A-8C51-255FF4EB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5F5B64-D7CF-4122-BB35-8FE555160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2329E4-E8EF-4686-AEB6-6E826F0CD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F8E1-6292-40AB-AE2E-274890F2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DC48-5725-496D-9D88-AE658298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6421-4EA2-49AD-866F-73EDA7B04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7D31-0D69-4509-9406-5C91F37D3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B51E7-7FC3-4A8C-82D1-A314E446D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B9C83-3136-4EA2-88A3-F976C692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29EB3-66B5-4051-82D4-96245024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F67AC-E2F6-4B83-AFD9-0703F87E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D4554-195F-4A33-9A9D-B28513B5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8B7B-DFAA-4604-AB1B-05CA7E63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23CAE-D90D-4AEE-9872-4462BCAF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992D5-F24D-44DF-99AF-49C3CCB6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66CA1-EBE5-41A0-A868-9B2EF471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70D14-30E9-46BD-BE4A-B775A3CA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130AA-B7F5-4745-8A72-C8307531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4071C-0EE3-42A9-A283-599D2C3BF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12374-3C14-4316-9A25-58C9BAF3A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EDAE5-0FF4-4C40-9CC3-2E9613283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6C867-10C9-4FFE-BD53-7B6DB2C8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CF271-445B-4926-88EB-C219AFDD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6846-5341-4500-A022-4D12F508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7E5F8-4B60-4E5E-B818-D8399BD9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5D2FD-ED67-435B-A067-B4BA64C7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EFDA3-DE2E-463D-8BDE-1BB2327C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6CB2B-7062-498D-A295-D51712DA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F9DD5-6DE7-4080-A120-FE8B10F9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8A368-FA2E-4FAD-BD78-11A9E549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D15EE-E0AF-42C5-98EB-8F82BEA2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CD977-40A7-4FE1-B06F-016ADC9EF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DFCC8-CC6D-435D-B23A-C16D2E1B5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8FB43-F5E0-457E-848A-A8EF29F20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B879-DB1C-4901-BF33-44C01D5D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02E6A-4199-4408-A50D-7B696224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0DC9D-469E-4CDC-85BF-5681AA04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BE432-90A8-4FE2-9210-0B3DD199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0806E-799A-493E-988F-9F4DA7D4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923F5-BA48-493C-8B9E-A200D646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373B8-14D0-4A53-BEA2-93A130A3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6ADFE-FBB6-47C7-8457-5B65C3CD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3A66A-5B61-4C8D-9355-55B9434B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6E26A-647A-47C7-9791-DB988305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9BB28-747D-40A0-8ACF-79E497204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7C23-ED55-42F9-A65B-EEB07347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5CCFE-B396-4FCA-9CD2-629C8BEF6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AC59F-8C6B-4478-8CA2-07AD6EC0E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C07CA-E1D3-4AF1-AE5E-730F32E5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2E073-4EDB-43A3-B144-71B8FA3E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147AC-EA65-4258-92D7-D2111CBB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F25CB-E293-4806-B80A-515E7A27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59C6C-4405-49A6-9F07-4B8739C7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79D5F-4717-4E32-BF52-726AD182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AD4B0-4213-47F6-B67E-107E188C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FA4CA-EC9A-42CC-AFCA-A9DBD6B9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B6B6-E8DA-40C7-9241-AF842C39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2A7A3-DCFE-46EA-B930-EAFDD40D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649AF-1C46-4F99-8BEE-1DEC633AE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C3799-9EE8-44E8-AB7F-B2C249740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25025-5D3D-4590-B601-94EA5649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05F4A-AEDB-4F80-80B8-7F846565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278C3-7036-4E3F-B94E-89FAC8D8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28E64-B50E-4D73-A845-87A8FFAD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68F86-E27B-4BF9-BA12-DD92FE83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368D5-D513-4697-940B-534234C6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F9D21-DCCB-44CD-BEBC-50C839EF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3BDA-7E68-4AF6-B7DF-4E0453F1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7FF6A-2598-4AE2-A9D5-C17BCCA7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186F1-2E7A-4E12-9F15-3587C26C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56435-0D65-42B3-8AE3-7B9BC5D1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49F2C-D030-4888-92BF-56835609C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4CE84-8F58-485B-9B7D-F677A487E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67AD6-B2A9-40B2-B0E7-76E9BBCDF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55102-E479-42CD-AAE8-AC9B4BBD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9987F-BFB2-4129-A4D8-B4CA038F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AE094-030E-455A-857D-2BF3C300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7EF61-9AA4-4CD5-A2D6-CE8F68E9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1D3A-DD91-4932-B4EF-E24C92A0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C807F-BC10-4160-B08D-DD734D46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8F71B-A778-412E-863E-3E5E1B58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12E25-D639-4B43-88DB-54247F2B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1AE91-04EE-4753-B452-9961AFE2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4561B-6A59-40AB-A1CB-55658F35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423F7-7504-4787-AFA3-9B28A169F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3BD63-3BF2-4405-8C9D-EEE6C3AE1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1865F0-C372-42B1-B967-39495C240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29FC6-2D39-4C1F-B7C3-06BACA52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203F8-E48E-4C84-BB16-EA4C05A2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55D5F9-91ED-457D-8C97-3B36C9C1A1F0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D1880A-00C8-402C-93C2-417D3D094BC8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6"/>
          <p:cNvGrpSpPr/>
          <p:nvPr/>
        </p:nvGrpSpPr>
        <p:grpSpPr>
          <a:xfrm>
            <a:off x="284040" y="452520"/>
            <a:ext cx="8575920" cy="137880"/>
            <a:chOff x="284040" y="452520"/>
            <a:chExt cx="8575920" cy="137880"/>
          </a:xfrm>
        </p:grpSpPr>
        <p:sp>
          <p:nvSpPr>
            <p:cNvPr id="415" name="Rectangle 7"/>
            <p:cNvSpPr/>
            <p:nvPr/>
          </p:nvSpPr>
          <p:spPr>
            <a:xfrm>
              <a:off x="284040" y="452520"/>
              <a:ext cx="1600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1884240" y="452520"/>
              <a:ext cx="2743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4626000" y="45252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F65458-9261-4735-BF5A-E1B57AD94FEA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4D40AB-A9EC-44C0-805C-1E36E6E61BF9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6"/>
          <p:cNvGrpSpPr/>
          <p:nvPr/>
        </p:nvGrpSpPr>
        <p:grpSpPr>
          <a:xfrm>
            <a:off x="284040" y="452520"/>
            <a:ext cx="8575920" cy="137880"/>
            <a:chOff x="284040" y="452520"/>
            <a:chExt cx="8575920" cy="137880"/>
          </a:xfrm>
        </p:grpSpPr>
        <p:sp>
          <p:nvSpPr>
            <p:cNvPr id="460" name="Rectangle 7"/>
            <p:cNvSpPr/>
            <p:nvPr/>
          </p:nvSpPr>
          <p:spPr>
            <a:xfrm>
              <a:off x="284040" y="452520"/>
              <a:ext cx="1600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1884240" y="452520"/>
              <a:ext cx="2743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4626000" y="45252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1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133078-AD5E-4022-A70A-5806228A2CD8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2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3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33E045-3996-419E-8106-7613A6A55119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506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4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61819D-6141-4289-8456-DBDF64EC54E4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5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6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0EB652-3FAB-4FB9-BA68-85530FED4C4B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8"/>
          <p:cNvGrpSpPr/>
          <p:nvPr/>
        </p:nvGrpSpPr>
        <p:grpSpPr>
          <a:xfrm>
            <a:off x="284040" y="4280040"/>
            <a:ext cx="8575920" cy="137880"/>
            <a:chOff x="284040" y="4280040"/>
            <a:chExt cx="8575920" cy="137880"/>
          </a:xfrm>
        </p:grpSpPr>
        <p:sp>
          <p:nvSpPr>
            <p:cNvPr id="551" name="Rectangle 7"/>
            <p:cNvSpPr/>
            <p:nvPr/>
          </p:nvSpPr>
          <p:spPr>
            <a:xfrm>
              <a:off x="284040" y="4280040"/>
              <a:ext cx="2743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8"/>
            <p:cNvSpPr/>
            <p:nvPr/>
          </p:nvSpPr>
          <p:spPr>
            <a:xfrm>
              <a:off x="3025800" y="4280040"/>
              <a:ext cx="1600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9"/>
            <p:cNvSpPr/>
            <p:nvPr/>
          </p:nvSpPr>
          <p:spPr>
            <a:xfrm>
              <a:off x="4626000" y="428004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7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EF7E2F-53EE-4477-B080-63BA6B728790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8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9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29DD70-918B-4001-B31C-CC7547851B34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6"/>
          <p:cNvSpPr/>
          <p:nvPr/>
        </p:nvSpPr>
        <p:spPr>
          <a:xfrm>
            <a:off x="284040" y="4267080"/>
            <a:ext cx="2743200" cy="212112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14"/>
          <p:cNvGrpSpPr/>
          <p:nvPr/>
        </p:nvGrpSpPr>
        <p:grpSpPr>
          <a:xfrm>
            <a:off x="284040" y="461880"/>
            <a:ext cx="8575920" cy="136440"/>
            <a:chOff x="284040" y="461880"/>
            <a:chExt cx="8575920" cy="136440"/>
          </a:xfrm>
        </p:grpSpPr>
        <p:sp>
          <p:nvSpPr>
            <p:cNvPr id="597" name="Rectangle 8"/>
            <p:cNvSpPr/>
            <p:nvPr/>
          </p:nvSpPr>
          <p:spPr>
            <a:xfrm>
              <a:off x="284040" y="461880"/>
              <a:ext cx="2743200" cy="136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9"/>
            <p:cNvSpPr/>
            <p:nvPr/>
          </p:nvSpPr>
          <p:spPr>
            <a:xfrm>
              <a:off x="3025800" y="461880"/>
              <a:ext cx="1600200" cy="1364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10"/>
            <p:cNvSpPr/>
            <p:nvPr/>
          </p:nvSpPr>
          <p:spPr>
            <a:xfrm>
              <a:off x="4626000" y="461880"/>
              <a:ext cx="4233960" cy="136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40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83966F-7C07-49E1-B649-109BA575B689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41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42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2AF8BC-49FA-4BC3-A4E0-7818DBC50892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6"/>
          <p:cNvSpPr/>
          <p:nvPr/>
        </p:nvSpPr>
        <p:spPr>
          <a:xfrm>
            <a:off x="3021120" y="4802040"/>
            <a:ext cx="583704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643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3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8C5FAF-13E8-4CDB-AF0A-52C623D33761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4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5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C2FA5C-B08B-482C-BAAA-69780FEFFED9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689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dt" idx="46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D5D6F1-A492-4465-89D7-375C2F1177C1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ftr" idx="47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sldNum" idx="48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E3FF4E-305B-4BC8-B906-A275E49E628E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6"/>
          <p:cNvSpPr/>
          <p:nvPr/>
        </p:nvSpPr>
        <p:spPr>
          <a:xfrm rot="5400000">
            <a:off x="5313600" y="2856600"/>
            <a:ext cx="5934240" cy="11350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Group 7"/>
          <p:cNvGrpSpPr/>
          <p:nvPr/>
        </p:nvGrpSpPr>
        <p:grpSpPr>
          <a:xfrm>
            <a:off x="7556400" y="457200"/>
            <a:ext cx="138240" cy="5934240"/>
            <a:chOff x="7556400" y="457200"/>
            <a:chExt cx="138240" cy="5934240"/>
          </a:xfrm>
        </p:grpSpPr>
        <p:sp>
          <p:nvSpPr>
            <p:cNvPr id="735" name="Rectangle 8"/>
            <p:cNvSpPr/>
            <p:nvPr/>
          </p:nvSpPr>
          <p:spPr>
            <a:xfrm rot="5400000">
              <a:off x="7072200" y="941040"/>
              <a:ext cx="110628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9"/>
            <p:cNvSpPr/>
            <p:nvPr/>
          </p:nvSpPr>
          <p:spPr>
            <a:xfrm rot="5400000">
              <a:off x="6676920" y="2444760"/>
              <a:ext cx="1897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10"/>
            <p:cNvSpPr/>
            <p:nvPr/>
          </p:nvSpPr>
          <p:spPr>
            <a:xfrm rot="5400000">
              <a:off x="6161040" y="4857840"/>
              <a:ext cx="2928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49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E02620-A4AF-4FBD-BD3E-8A2AC10F8598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0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1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03F83B-95DC-447A-B48E-EF611B6BA215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4040" y="44460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6"/>
          <p:cNvGrpSpPr/>
          <p:nvPr/>
        </p:nvGrpSpPr>
        <p:grpSpPr>
          <a:xfrm>
            <a:off x="284040" y="1906560"/>
            <a:ext cx="8575920" cy="138240"/>
            <a:chOff x="284040" y="1906560"/>
            <a:chExt cx="8575920" cy="138240"/>
          </a:xfrm>
        </p:grpSpPr>
        <p:sp>
          <p:nvSpPr>
            <p:cNvPr id="43" name="Rectangle 8"/>
            <p:cNvSpPr/>
            <p:nvPr/>
          </p:nvSpPr>
          <p:spPr>
            <a:xfrm>
              <a:off x="284040" y="1906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9"/>
            <p:cNvSpPr/>
            <p:nvPr/>
          </p:nvSpPr>
          <p:spPr>
            <a:xfrm>
              <a:off x="3025800" y="1906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4626000" y="1906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TextBox 11"/>
          <p:cNvSpPr/>
          <p:nvPr/>
        </p:nvSpPr>
        <p:spPr>
          <a:xfrm>
            <a:off x="8205840" y="444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284040" y="6227640"/>
            <a:ext cx="8574120" cy="17316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CC5AD3-D2CC-4A01-8D6F-267C4002F526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D4E547-B645-42DD-8D96-7E202D3509F5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91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D273A2-D8B8-4A67-B804-53A71EBC1C54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A63E8B-AD99-4441-8C29-D7653AAA160E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284040" y="44460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6"/>
          <p:cNvGrpSpPr/>
          <p:nvPr/>
        </p:nvGrpSpPr>
        <p:grpSpPr>
          <a:xfrm>
            <a:off x="284040" y="1906560"/>
            <a:ext cx="8575920" cy="138240"/>
            <a:chOff x="284040" y="1906560"/>
            <a:chExt cx="8575920" cy="138240"/>
          </a:xfrm>
        </p:grpSpPr>
        <p:sp>
          <p:nvSpPr>
            <p:cNvPr id="137" name="Rectangle 8"/>
            <p:cNvSpPr/>
            <p:nvPr/>
          </p:nvSpPr>
          <p:spPr>
            <a:xfrm>
              <a:off x="284040" y="1906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9"/>
            <p:cNvSpPr/>
            <p:nvPr/>
          </p:nvSpPr>
          <p:spPr>
            <a:xfrm>
              <a:off x="3025800" y="1906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4626000" y="1906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Box 11"/>
          <p:cNvSpPr/>
          <p:nvPr/>
        </p:nvSpPr>
        <p:spPr>
          <a:xfrm>
            <a:off x="8205840" y="444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6122E1-CC7A-44AD-A749-B54D68E00371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E34215-FA0B-4CAB-A2D0-9535AD8D6E33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184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Box 11"/>
          <p:cNvSpPr/>
          <p:nvPr/>
        </p:nvSpPr>
        <p:spPr>
          <a:xfrm>
            <a:off x="8205840" y="4802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39202C-46AE-4325-90E1-29B1F11B9179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4B8006-A2D6-4D54-BD7B-3911677126AF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231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11"/>
          <p:cNvSpPr/>
          <p:nvPr/>
        </p:nvSpPr>
        <p:spPr>
          <a:xfrm>
            <a:off x="8205840" y="4802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0FCCDA-6650-4D88-B9ED-E61F0EE1F47A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E4B8F0-90A8-4291-9C38-62A9812114A0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278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FAF871-0CBA-49E2-9E16-2414F1969224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54C6A6-BDBA-4A7D-A3C4-334A4F7E348A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324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169674-E6C1-4531-A13B-AEB9F20F9522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E594E0-194B-4F34-9868-8FFDC52D3E5E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370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1FDF84-A943-4B38-B8BF-0CC0C24AE452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B6B5A6-DFA3-419D-B8EA-7B35689643AC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20480" y="448920"/>
            <a:ext cx="780876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CT 300: Critical Analysis of Medi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75920" y="1401480"/>
            <a:ext cx="7753320" cy="61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ass 10: Some Final Thoughts on the Information Age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Information or Creation?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262626"/>
                </a:solidFill>
                <a:latin typeface="Constantia"/>
              </a:rPr>
              <a:t>“</a:t>
            </a: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information economy</a:t>
            </a:r>
            <a:r>
              <a:rPr b="0" lang="ja-JP" sz="2800" spc="-1" strike="noStrike">
                <a:solidFill>
                  <a:srgbClr val="262626"/>
                </a:solidFill>
                <a:latin typeface="Constantia"/>
              </a:rPr>
              <a:t>”</a:t>
            </a: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 - what is it?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What are value-added activities in the information economy?  (and what aren’t all that valuable?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Three Trends (Pink)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Abunda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Automa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Asia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Abundance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The developed world has most its basic needs sorted ou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People don’t necessarily need more stuff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New products not about need but want (and engineering that want…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Difficulties resulting from this? See Annie Leonard’s Story of Stuff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Automation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Products are increasingly produced by machines (e.g., robotics in manufacturing - reduced labor costs, higher precision in most cases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But so are professional services - e.g., DIY law, accounting services, etc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The more clear the task, the more likely a machine can do it cheaper and better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Asia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5600" indent="-43560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Alliteration! (Think globalization - also includes BRIC countries and elsewhere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35600" indent="-43560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Global work transfer - not just cheaper manufacturing labour but also cheaper information economy labour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35600" indent="-43560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Many qualified scientists, doctors, engineers in BRIC - often available at a fraction of cost (*until wages normalize at least…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356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The Conceptual Age: High Concept, High Touch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9280" indent="-44928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Previously privileged talents increasingly automated, outsourced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49280" indent="-44928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Creativity - not just information processing - is the real value-added activity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49280" indent="-44928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More complicated than following rules - must be able to manipulate and create them to new ends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rbel"/>
              </a:rPr>
              <a:t>Rise (and Flight) of the  Creative Class (Florida)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  <a:ea typeface="ＭＳ Ｐゴシック"/>
              </a:rPr>
              <a:t>“</a:t>
            </a:r>
            <a:r>
              <a:rPr b="0" lang="en-US" sz="2600" spc="-1" strike="noStrike">
                <a:solidFill>
                  <a:srgbClr val="262626"/>
                </a:solidFill>
                <a:latin typeface="Constantia"/>
                <a:ea typeface="ＭＳ Ｐゴシック"/>
              </a:rPr>
              <a:t>Creative class” growing in number and power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  <a:ea typeface="ＭＳ Ｐゴシック"/>
              </a:rPr>
              <a:t>Talent, technology and tolerance (e.g., the “gay hypothesis”) drive creative class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  <a:ea typeface="ＭＳ Ｐゴシック"/>
              </a:rPr>
              <a:t>National/worldwide competition for creative talent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  <a:ea typeface="ＭＳ Ｐゴシック"/>
              </a:rPr>
              <a:t>Creative class thrives in creative communities – and leaves those that aren’t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Implications for (Your) Education and Employment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0920" indent="-43092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A troubling trend in higher education – standardized testing (and teaching to the test) and programmatic learning via rubric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30920" indent="-43092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But…creative class defines rules, not blindly follow them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30920" indent="-43092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Mimicry of instructions is not education – e.g., McCloud’s surface vs. deeper engage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30920" indent="-43092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In the workforce – high end careers define rules, low end follows: which do you want to be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In-class assignment (due today)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hat will you do to ensure you’re worth something of value in today’s economy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hat shouldn’t you do if you want to keep that position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Final Exam Tip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0280" indent="-44028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10-15 MC questions (20-30%) – more factua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0280" indent="-44028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t of short answer questions related to case(s) (70%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0280" indent="-44028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ase questions – more interpretation and application than regurgitation - don’t just repeat concept definitions – apply to case con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0280" indent="-44028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tudy by taking concepts and applying them to new situations - if you can do that without issue, you’re probably fin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Administration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omic creation marking almost done – returned by next week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Feedback cycle should be done ASAP – by Saturday, anything you say won’t be of much us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Remember message, medium and audi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Dissemination strategies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A Critical Take on the Information Age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Winner’s mythinformation - technology adherents take to near mythical descriptions of how technology will change our world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Platitudes easily rejected – e.g., today’s “death of print” sounds the same as the “paperless office” 30 years ago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5396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Four Myths of Information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People are lacking informa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Information is knowledg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Knowledge is pow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Information access = democrac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rbel"/>
              </a:rPr>
              <a:t>Data, Information, Knowledge, Wisdom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ata = raw form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formation = semantic valu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nowledge = relevance of semantic value and connections with other relevant piece of informa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sdom = ethics, politics of knowledg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ottery exampl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Do we really lack information?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Many argue opposite – we’re drowning in i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Are we are losing the ability to make associations and connections as a result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Ex: 500-channel universe, academic journal explosion - little common ground, little opportunity for full analysi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Information = Knowledge?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Information makes you good at Jeopardy or Trivial Pursuit – but not necessarily knowledgeable, which is about connections and relevance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9/11 example - information regarding terror cells existed but was scattered, uncoordinated – it existed, but only made sense in hindsigh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Knowledge = Power?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Knowledge available at the right time and context to people with the resources to act upon it might equal power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Knowledge without power might be more frustrating than enabling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Information = Democracy?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onstantia"/>
              </a:rPr>
              <a:t>Global, ubiquitous, fast and cheap (Shirky) Internet may destabilize power structures (e.g., OWS, Arab Spring, Iranian Green Revolution)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onstantia"/>
              </a:rPr>
              <a:t>But resulting discussion can also become more base, ridiculous (e.g., comments on news sites/shows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onstantia"/>
              </a:rPr>
              <a:t>Most people are simply not interested in all the relevant information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onstantia"/>
              </a:rPr>
              <a:t>Direct democracy can be dangerous (e.g., minority rights), or asinine - e.g., Stockwell </a:t>
            </a:r>
            <a:r>
              <a:rPr b="0" lang="ja-JP" sz="2000" spc="-1" strike="noStrike">
                <a:solidFill>
                  <a:srgbClr val="262626"/>
                </a:solidFill>
                <a:latin typeface="Constantia"/>
              </a:rPr>
              <a:t>“</a:t>
            </a:r>
            <a:r>
              <a:rPr b="0" lang="en-US" sz="2000" spc="-1" strike="noStrike">
                <a:solidFill>
                  <a:srgbClr val="262626"/>
                </a:solidFill>
                <a:latin typeface="Constantia"/>
              </a:rPr>
              <a:t>Doris</a:t>
            </a:r>
            <a:r>
              <a:rPr b="0" lang="ja-JP" sz="2000" spc="-1" strike="noStrike">
                <a:solidFill>
                  <a:srgbClr val="262626"/>
                </a:solidFill>
                <a:latin typeface="Constantia"/>
              </a:rPr>
              <a:t>”</a:t>
            </a:r>
            <a:r>
              <a:rPr b="0" lang="en-US" sz="2000" spc="-1" strike="noStrike">
                <a:solidFill>
                  <a:srgbClr val="262626"/>
                </a:solidFill>
                <a:latin typeface="Constantia"/>
              </a:rPr>
              <a:t> Day exampl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04:03:30Z</dcterms:created>
  <dc:creator>Sheridan College</dc:creator>
  <dc:description/>
  <dc:language>en-US</dc:language>
  <cp:lastModifiedBy>Sheridan College</cp:lastModifiedBy>
  <dcterms:modified xsi:type="dcterms:W3CDTF">2011-11-17T20:10:54Z</dcterms:modified>
  <cp:revision>91</cp:revision>
  <dc:subject/>
  <dc:title>CCT 300: Critical Analysis  of Media</dc:title>
</cp:coreProperties>
</file>